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E27C-D8F3-4D52-A149-9301E2E5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2109-47B4-4111-8F9C-2138A55B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5167-DB4F-47B2-B613-2D165ED3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4CC0-F4E2-4B93-9DFA-3450BEDD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93C0-DA25-402E-9632-E47FEC24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9129-13AE-49B0-8DA4-5EF0BD38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BC45-6ECE-4E0C-9AC9-81F11D25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28E9-5B79-4E2A-AD90-AD85C83E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1B8A-A8A2-41BC-A730-AC507F49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0389-AB75-45F7-A5FB-B890978A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9E2C-1F01-4997-9FB4-14B53111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85E3-7FBB-4E63-BFA1-C97A81EC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C990-9BBC-4356-9AE2-331069B9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717D-CD3C-49BE-8009-C22458DF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4CD6-B84E-4094-9DA4-5F8086C6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BB5F-F6D5-40B4-8789-F25239FE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FD35-BD6E-48B0-B937-DB7EA197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5FA2-AD43-401A-AD30-4751B02B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A64C-AA0D-4A19-A4A4-8C8B2D02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3227-5C0D-4956-A88F-08B241A5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A432-4E87-4B27-8D3D-27C4BD5B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77F8-4460-485D-8D04-E8BD58B6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087-6335-4909-9590-00E74897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B18E-18CF-4EE7-B338-24A0671C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F2A8-566E-4DD0-933A-783F34E2A1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D69A-78F1-42CF-BC9A-C6782538ED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onquistador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:Matt Lyd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s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live in Central Mexico in the vall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capital is Tenochtitl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Polytheistic and believed in many g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562720" y="2668680"/>
            <a:ext cx="2286000" cy="20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lived in South America, in the Andes Mts,Per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capital was Cuz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polytheistic=belief in many g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4120" y="2541600"/>
            <a:ext cx="2361960" cy="22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lived on the Mexican coast of Yucatan Peninsu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han 1 major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Polytheis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257800" y="2516040"/>
            <a:ext cx="245592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ortez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tez and his crew where not poly theist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tez became the prisoner from the Aztec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 Cortez returned tons of Spanish soldiers where kill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izarr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zarro was another Spanish Conquista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zarro began his quest for the Inca empire but fail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532 Pizarro finally arrived in Caxamar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How did the Spanish conquistadors change Central and South America forever?</a:t>
            </a:r>
            <a:br>
              <a:rPr sz="32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everybody speaks English or spanish but not back th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body is polytheistic any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itions have disappea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14:36:22Z</dcterms:created>
  <dc:creator>jklib</dc:creator>
  <dc:description/>
  <dc:language>en-US</dc:language>
  <cp:lastModifiedBy>h</cp:lastModifiedBy>
  <dcterms:modified xsi:type="dcterms:W3CDTF">2011-11-21T15:52:12Z</dcterms:modified>
  <cp:revision>3</cp:revision>
  <dc:subject/>
  <dc:title>Conquistadors</dc:title>
</cp:coreProperties>
</file>